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12E-0E4F-4DC7-9B0A-0B0FE9D9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B59-2B2E-49CA-8662-03968C4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522-4A6D-4F68-AA47-73685939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0FE-8291-4EC1-9B5F-B04FEF42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853-4173-4D64-8205-89C4D83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318-4DC1-431A-81CD-C7FE4B5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59B-476A-472E-AB0F-1777510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CBB-999A-4B89-AC55-25553F24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283-378E-47C2-BDF1-4B7F018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BA9-024F-4096-8BE0-FCF94EF5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F20-4944-4EDB-81B9-D662F80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161-FBD7-4F80-ADDE-443E479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D0B5-BE81-4A00-AFB8-E1CC291C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gender colors better then the oth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Keena Schwe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144756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2408040" cy="192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494800">
            <a:off x="457200" y="4191120"/>
            <a:ext cx="183528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627000">
            <a:off x="5333760" y="3049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ffect does gender have on your coloring 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30319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icked this because I wanted to see who colors better than the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4290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ackground Inf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ogled my question and found a coloring contest at a school and they were K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.  They were very good pictures.  I also saw that they were mostly boys in first, second, and third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358164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ypothesi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dict that the girls will color better than the boys will.   But the boys will have a good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572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pictures that a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duplicate 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4191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will test one boy then a girl and keep going until I am done.  Then I will compare the winners of the two gen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251460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590920"/>
            <a:ext cx="14475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as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l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a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266688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contestants where judged by neatness, creativity, color, and line quality.  They where judge by Mrs. Calderwood.  These are the places or rankings that they rece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0808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04:55Z</dcterms:created>
  <dc:creator>USD376</dc:creator>
  <dc:description/>
  <dc:language>en-US</dc:language>
  <cp:lastModifiedBy>STERLING  USD376</cp:lastModifiedBy>
  <dcterms:modified xsi:type="dcterms:W3CDTF">2011-03-08T15:01:39Z</dcterms:modified>
  <cp:revision>13</cp:revision>
  <dc:subject/>
  <dc:title>Slide 1</dc:title>
</cp:coreProperties>
</file>